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BB62-005C-4CE0-8344-1E3742BCDD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BC05-81DF-409D-A23E-F2DE7C22B8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700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64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125880" y="8263080"/>
            <a:ext cx="624960" cy="567720"/>
            <a:chOff x="3125880" y="8263080"/>
            <a:chExt cx="624960" cy="567720"/>
          </a:xfrm>
        </p:grpSpPr>
        <p:sp>
          <p:nvSpPr>
            <p:cNvPr id="340" name=""/>
            <p:cNvSpPr/>
            <p:nvPr/>
          </p:nvSpPr>
          <p:spPr>
            <a:xfrm>
              <a:off x="3130920" y="8267400"/>
              <a:ext cx="619920" cy="56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4224-780A-478A-9F4F-84835A9853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D3D9-ED96-4AC2-B46A-831BBD39F4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556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79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25880" y="8263080"/>
            <a:ext cx="624960" cy="569520"/>
            <a:chOff x="3125880" y="8263080"/>
            <a:chExt cx="624960" cy="569520"/>
          </a:xfrm>
        </p:grpSpPr>
        <p:sp>
          <p:nvSpPr>
            <p:cNvPr id="322" name=""/>
            <p:cNvSpPr/>
            <p:nvPr/>
          </p:nvSpPr>
          <p:spPr>
            <a:xfrm>
              <a:off x="3130920" y="8267400"/>
              <a:ext cx="61992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55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7589-F3CF-40BF-9A84-42F9616B4D9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700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64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125880" y="8263080"/>
            <a:ext cx="624960" cy="567720"/>
            <a:chOff x="3125880" y="8263080"/>
            <a:chExt cx="624960" cy="567720"/>
          </a:xfrm>
        </p:grpSpPr>
        <p:sp>
          <p:nvSpPr>
            <p:cNvPr id="331" name=""/>
            <p:cNvSpPr/>
            <p:nvPr/>
          </p:nvSpPr>
          <p:spPr>
            <a:xfrm>
              <a:off x="3130920" y="8267400"/>
              <a:ext cx="619920" cy="56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BD74-457C-4CE4-B98E-4E4085BC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9088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D7A-DE70-46AC-97DA-19A7E84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00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432-081C-451B-8BC8-5EF16711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9896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0264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9896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0264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0B3-B991-4A34-A540-30ECA594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D78-5ACD-44C3-831C-EFADBEF2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0229-A952-48FA-A0B7-925881A9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28E-2FFF-47D6-977A-9CA2451F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127-9D18-438E-BB30-A37C046F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340000" y="274320"/>
            <a:ext cx="547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0ED-4633-4573-BB95-2FE71072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EF9-C82F-4CE8-876E-7EB7108A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00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850-9B31-4EB9-9373-5FBC78D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207-D5B1-477E-AAC6-F70F3570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rching, 12-16/09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. Collados, I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75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tectors for Astronom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D75-77D2-4A03-B74F-EE29E938BD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29600" cy="1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6235560"/>
            <a:ext cx="849636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16000" cy="109836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8244000" y="260280"/>
            <a:ext cx="856800" cy="864360"/>
            <a:chOff x="8244000" y="260280"/>
            <a:chExt cx="856800" cy="864360"/>
          </a:xfrm>
        </p:grpSpPr>
        <p:sp>
          <p:nvSpPr>
            <p:cNvPr id="10" name=""/>
            <p:cNvSpPr/>
            <p:nvPr/>
          </p:nvSpPr>
          <p:spPr>
            <a:xfrm>
              <a:off x="8250840" y="267120"/>
              <a:ext cx="849960" cy="85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4"/>
            <a:stretch/>
          </p:blipFill>
          <p:spPr>
            <a:xfrm>
              <a:off x="8244000" y="260280"/>
              <a:ext cx="850320" cy="858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odern Detectors in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high-resolution ground-based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bservational Solar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. Coll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ituto de Astrofísica de Can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Solar Tele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8480" y="103320"/>
            <a:ext cx="63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mporal evolution (chromosph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719280"/>
            <a:ext cx="751824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704-EC38-474E-B957-F9B109458A92}" type="slidenum">
              <a:t>10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930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9" descr="sunspot_cont_cak"/>
          <p:cNvPicPr/>
          <p:nvPr/>
        </p:nvPicPr>
        <p:blipFill>
          <a:blip r:embed="rId1"/>
          <a:stretch/>
        </p:blipFill>
        <p:spPr>
          <a:xfrm>
            <a:off x="108000" y="1436760"/>
            <a:ext cx="8901000" cy="4513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3528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hot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587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hro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709-E4C1-465B-8C8E-46EA9FEA80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1954080"/>
            <a:ext cx="8209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Simultaneous observation of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Highest spatial resolution (0.04” @ 500 n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Temporal evolution at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field stratification </a:t>
            </a:r>
            <a:r>
              <a:rPr b="0" lang="es-ES" sz="22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Polarimetric measu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field evolution at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coupling of the solar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445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ULTANEOUS USE OF DIFFERENT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IENC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B17-78DA-4BEB-BB33-19C539B0D4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358920"/>
            <a:ext cx="81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Polarimetric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96800" y="1735200"/>
            <a:ext cx="6559560" cy="1798560"/>
            <a:chOff x="1396800" y="1735200"/>
            <a:chExt cx="6559560" cy="1798560"/>
          </a:xfrm>
        </p:grpSpPr>
        <p:grpSp>
          <p:nvGrpSpPr>
            <p:cNvPr id="164" name=""/>
            <p:cNvGrpSpPr/>
            <p:nvPr/>
          </p:nvGrpSpPr>
          <p:grpSpPr>
            <a:xfrm>
              <a:off x="2469600" y="1735200"/>
              <a:ext cx="5327640" cy="1798560"/>
              <a:chOff x="2469600" y="1735200"/>
              <a:chExt cx="5327640" cy="1798560"/>
            </a:xfrm>
          </p:grpSpPr>
          <p:sp>
            <p:nvSpPr>
              <p:cNvPr id="165" name=""/>
              <p:cNvSpPr/>
              <p:nvPr/>
            </p:nvSpPr>
            <p:spPr>
              <a:xfrm>
                <a:off x="7672680" y="1735200"/>
                <a:ext cx="12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778160" y="1735200"/>
                <a:ext cx="0" cy="13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70200" y="1735200"/>
                <a:ext cx="12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279560" y="1735200"/>
                <a:ext cx="0" cy="139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69600" y="3056040"/>
                <a:ext cx="106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ol.</a:t>
                </a:r>
                <a:r>
                  <a:rPr b="1" lang="es-ES_tradnl" sz="2000" spc="-1" strike="noStrike">
                    <a:solidFill>
                      <a:srgbClr val="ff66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18800" y="3042360"/>
                <a:ext cx="124920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 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06800" y="3042360"/>
                <a:ext cx="1246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 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s-ES_tradnl" sz="2000" spc="-1" strike="noStrike">
                    <a:solidFill>
                      <a:srgbClr val="ff66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7662240" y="3129840"/>
              <a:ext cx="12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60480" y="3129840"/>
              <a:ext cx="12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019920" y="2432520"/>
              <a:ext cx="106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776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2084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7164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396800" y="2476080"/>
              <a:ext cx="106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7000" y="2084760"/>
              <a:ext cx="81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30680" y="1822320"/>
              <a:ext cx="625680" cy="13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06440" y="3441600"/>
            <a:ext cx="6073920" cy="1859040"/>
            <a:chOff x="1306440" y="3441600"/>
            <a:chExt cx="6073920" cy="1859040"/>
          </a:xfrm>
        </p:grpSpPr>
        <p:sp>
          <p:nvSpPr>
            <p:cNvPr id="182" name=""/>
            <p:cNvSpPr/>
            <p:nvPr/>
          </p:nvSpPr>
          <p:spPr>
            <a:xfrm>
              <a:off x="1306440" y="4138560"/>
              <a:ext cx="607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trans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[1  1  0  0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 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) R 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852240" y="3441600"/>
              <a:ext cx="0" cy="185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9200" y="3441600"/>
              <a:ext cx="1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9200" y="5300640"/>
              <a:ext cx="1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120" y="344160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324120" y="3441600"/>
              <a:ext cx="0" cy="185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14400" y="530064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0000" y="3557520"/>
              <a:ext cx="66024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6000" y="4076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17560" y="5300640"/>
            <a:ext cx="5375520" cy="703440"/>
            <a:chOff x="1717560" y="5300640"/>
            <a:chExt cx="5375520" cy="703440"/>
          </a:xfrm>
        </p:grpSpPr>
        <p:sp>
          <p:nvSpPr>
            <p:cNvPr id="192" name=""/>
            <p:cNvSpPr/>
            <p:nvPr/>
          </p:nvSpPr>
          <p:spPr>
            <a:xfrm>
              <a:off x="1717560" y="530064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s-ES_tradnl" sz="40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74920" y="5516640"/>
              <a:ext cx="471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 I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N    // 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 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73480" y="53737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76560" y="536256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02160" y="53452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89400" y="536256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6E2-3EEB-4AA9-8B37-73F468BD78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1413000"/>
            <a:ext cx="79930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tr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Broad-band im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arrow-band tunable filter spectropola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Grating spectropola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3357720"/>
            <a:ext cx="799308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umber of instrument chann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Broad-band imager: 3 (goal 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Visible narrow-band filter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lt;1100 nm): up to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IR narrow-band filter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gt;700 nm): up to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Visible spectrograph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lt;1100 nm): up t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IR spectrograph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gt;700 nm): up to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F77-F8B6-401B-8340-52741FF0D8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56000" y="6568920"/>
            <a:ext cx="1360440" cy="2890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24280" y="6545160"/>
            <a:ext cx="1290600" cy="312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966920" y="322740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3227400"/>
            <a:ext cx="2430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300640"/>
            <a:ext cx="339840" cy="9144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87880" y="4175280"/>
            <a:ext cx="218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5070600"/>
            <a:ext cx="853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9800" y="3213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1800" y="42465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4076640"/>
            <a:ext cx="70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75-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352760" y="3257640"/>
            <a:ext cx="2448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6320" y="5319720"/>
            <a:ext cx="341280" cy="912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3429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5/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ubL"/>
          <p:cNvSpPr/>
          <p:nvPr/>
        </p:nvSpPr>
        <p:spPr>
          <a:xfrm rot="5400000">
            <a:off x="6731280" y="1916640"/>
            <a:ext cx="1271520" cy="2279880"/>
          </a:xfrm>
          <a:custGeom>
            <a:avLst/>
            <a:gdLst>
              <a:gd name="textAreaLeft" fmla="*/ 0 w 1271520"/>
              <a:gd name="textAreaRight" fmla="*/ 1271520 w 1271520"/>
              <a:gd name="textAreaTop" fmla="*/ 1467720 h 2279880"/>
              <a:gd name="textAreaBottom" fmla="*/ 2280240 h 22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1440" y="3500280"/>
            <a:ext cx="32220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ubL"/>
          <p:cNvSpPr/>
          <p:nvPr/>
        </p:nvSpPr>
        <p:spPr>
          <a:xfrm rot="16200000">
            <a:off x="6701400" y="3900960"/>
            <a:ext cx="1843200" cy="1543320"/>
          </a:xfrm>
          <a:custGeom>
            <a:avLst/>
            <a:gdLst>
              <a:gd name="textAreaLeft" fmla="*/ 0 w 1843200"/>
              <a:gd name="textAreaRight" fmla="*/ 1843560 w 1843200"/>
              <a:gd name="textAreaTop" fmla="*/ 771840 h 1543320"/>
              <a:gd name="textAreaBottom" fmla="*/ 1543680 h 154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4320" y="2919240"/>
            <a:ext cx="141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NI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00-9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81400" y="407196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NI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900-11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3232080"/>
            <a:ext cx="2412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8160" y="33400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7600" y="249228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208040" y="2490840"/>
            <a:ext cx="24444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ubL"/>
          <p:cNvSpPr/>
          <p:nvPr/>
        </p:nvSpPr>
        <p:spPr>
          <a:xfrm rot="5400000">
            <a:off x="4558680" y="604440"/>
            <a:ext cx="1270080" cy="2279880"/>
          </a:xfrm>
          <a:custGeom>
            <a:avLst/>
            <a:gdLst>
              <a:gd name="textAreaLeft" fmla="*/ 0 w 1270080"/>
              <a:gd name="textAreaRight" fmla="*/ 1270440 w 1270080"/>
              <a:gd name="textAreaTop" fmla="*/ 1467720 h 2279880"/>
              <a:gd name="textAreaBottom" fmla="*/ 2280240 h 22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1413000"/>
            <a:ext cx="21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1 (390-55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44880" y="2390760"/>
            <a:ext cx="1397160" cy="317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1 CaII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81400" y="322740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3385440" y="1807560"/>
            <a:ext cx="380880" cy="103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8660000">
            <a:off x="2836800" y="1982520"/>
            <a:ext cx="1139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3 H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CaII 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69680" y="62182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3440" y="6254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N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227400"/>
            <a:ext cx="2444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ubL"/>
          <p:cNvSpPr/>
          <p:nvPr/>
        </p:nvSpPr>
        <p:spPr>
          <a:xfrm rot="5400000">
            <a:off x="1639440" y="3342960"/>
            <a:ext cx="1334880" cy="2217960"/>
          </a:xfrm>
          <a:custGeom>
            <a:avLst/>
            <a:gdLst>
              <a:gd name="textAreaLeft" fmla="*/ 0 w 1334880"/>
              <a:gd name="textAreaRight" fmla="*/ 1335240 w 1334880"/>
              <a:gd name="textAreaTop" fmla="*/ 1427760 h 2217960"/>
              <a:gd name="textAreaBottom" fmla="*/ 2218320 h 221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ubL"/>
          <p:cNvSpPr/>
          <p:nvPr/>
        </p:nvSpPr>
        <p:spPr>
          <a:xfrm rot="5400000">
            <a:off x="10440" y="2643120"/>
            <a:ext cx="3112920" cy="1094040"/>
          </a:xfrm>
          <a:custGeom>
            <a:avLst/>
            <a:gdLst>
              <a:gd name="textAreaLeft" fmla="*/ 0 w 3112920"/>
              <a:gd name="textAreaRight" fmla="*/ 3113280 w 3112920"/>
              <a:gd name="textAreaTop" fmla="*/ 547200 h 1094040"/>
              <a:gd name="textAreaBottom" fmla="*/ 1094400 h 10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6995" y="10800"/>
                </a:lnTo>
                <a:lnTo>
                  <a:pt x="6995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84360" y="220500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-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29080" y="249228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3052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-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6320" y="29242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47600" y="427032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2 (550-7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0240" y="320976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700-11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89560" y="3382920"/>
            <a:ext cx="0" cy="18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4920" y="56545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we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94320" y="1693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ppe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70160" y="61452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eam from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2280" y="244620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192480" y="2276640"/>
            <a:ext cx="94788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2280" y="2820960"/>
            <a:ext cx="0" cy="13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228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2280" y="2133720"/>
            <a:ext cx="0" cy="31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2280" y="1446120"/>
            <a:ext cx="0" cy="687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102280" y="1133640"/>
            <a:ext cx="0" cy="31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746360" y="3355920"/>
            <a:ext cx="334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500200" y="2508120"/>
            <a:ext cx="662040" cy="84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777680" y="3360600"/>
            <a:ext cx="3920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2720" y="3232080"/>
            <a:ext cx="2412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225960"/>
            <a:ext cx="2444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24600" y="4037040"/>
            <a:ext cx="2430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019920" y="404964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2280" y="944640"/>
            <a:ext cx="0" cy="53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4189680" y="2446920"/>
            <a:ext cx="380880" cy="1033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660000">
            <a:off x="3591000" y="2626920"/>
            <a:ext cx="1139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II 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24280" y="238140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76640" y="405144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1960" y="237492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94720" y="34527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I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02280" y="3330720"/>
            <a:ext cx="0" cy="53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6680" y="2992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VI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71720" y="335772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196440" y="3026880"/>
            <a:ext cx="277920" cy="331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75680" y="28144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894320" y="3335040"/>
            <a:ext cx="265680" cy="34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750680" y="335772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8480" y="34592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GREEN-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94520" y="29973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90120" y="1033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 Simultaneous instr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DDA-9D5B-4A4A-A3F5-3297CF71C9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4360" y="1386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ferent instruments require different det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194472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on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Integration time &lt; 10 ms (to freeze atmosp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Global shutter (same atmospheric degradation at all pi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4 k x 4k (1 x 1 arcmin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for optimum resolution with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instruments; and largest FOV for 2D spectrograp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Expected flux: (~2 - 4 M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/px/s)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ell depth &gt; 40000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hoton-noise limited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read noise &lt; 1/3 * noise (5-10% w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pth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read noise &lt; 15 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35C-EAA7-46A6-9AB3-B2DC292F6B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4360" y="170028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on requirements (cont’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ark current: few 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ixel size: 10-20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avelength range: 390 -1600 nm (2300 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14 bits/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QE: as large as possible; &gt; 60% (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&gt; 90% (V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&gt; 50% (N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Good (and stable) cosm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1AC-15F9-4735-941C-05D066F9FE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280"/>
            <a:ext cx="910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-BAND IM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1944720"/>
            <a:ext cx="7993080" cy="30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ticular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rame rate: 30-100 fr/s, for post-facto reconstru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techniques (speckle, MOMFB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multaneous exposure of all chann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(to better than 1 ms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simultaneous trigg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B23-B288-471D-AA59-7AF68417C6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03280" y="44280"/>
            <a:ext cx="770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CTORS FOR POLARIMETRY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IMAGERS AND 2D SPECTRO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1501920"/>
            <a:ext cx="799308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ticular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ad time between exposures: 0 ms (photons are sc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or polarimetry; signals are tremendously sm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rame rate: 100 fr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multaneous exposure of all channels (to better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1 ms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simultaneous trigg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olarization modulation on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olarization modulation frequency &gt;&gt; frame rate;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Number of modulation states: 4 to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36D-6176-4C37-91F4-A845B3849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ajor Groundbased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lar Observ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1920" y="2021040"/>
            <a:ext cx="744840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2760" y="355932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5166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7040" y="3498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2160" y="351792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53052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65560" y="37908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19400" y="3797280"/>
            <a:ext cx="21780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1320" y="326376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0640" y="29844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57960" y="35352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280" y="587700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03800" y="3860640"/>
            <a:ext cx="217800" cy="21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4320" y="38750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ATST 4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3429000"/>
            <a:ext cx="14302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BB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NSO K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NSO 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95680" y="2673360"/>
            <a:ext cx="90504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S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THEM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V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D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GREGOR</a:t>
            </a:r>
            <a:r>
              <a:rPr b="0" lang="de-DE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19360" y="400536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EST  4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00996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Crim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5320" y="272412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Baik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0" y="352116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H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96120" y="378468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Huair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3920" y="35672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645000"/>
            <a:ext cx="1295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Himalya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Udaipur 0.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57640" y="3741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05360" y="3741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64500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200" y="5445000"/>
            <a:ext cx="107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exi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ff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02560" y="3213000"/>
            <a:ext cx="217440" cy="21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31878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Fuxian 1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4560" y="3789360"/>
            <a:ext cx="21780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378936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D35-A025-4874-BFAF-2787CBD99BF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547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76240" y="205416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726080" y="205416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392120" y="5300640"/>
            <a:ext cx="60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VTT Tenerife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0F1-50AE-44D6-B21D-56F14D03EFA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846520" y="333360"/>
            <a:ext cx="4781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AO Wavefront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2637000"/>
            <a:ext cx="3456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ometry for high order on-axis W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cm subapertu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852 subaperture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V: 10´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51280" y="1523880"/>
            <a:ext cx="4944960" cy="455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02B-BB7A-41CF-8C06-DE662B3615B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39640" y="475920"/>
            <a:ext cx="576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-Conjugate 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92120" y="5654520"/>
            <a:ext cx="60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VTT Tenerife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77336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71640" y="494172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AO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7400" y="4933800"/>
            <a:ext cx="22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Conventional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48360" y="486900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M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6F1-344B-4151-80A7-8F69F663E46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39640" y="475920"/>
            <a:ext cx="576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-Conjugate 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7280" cy="22701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403280" y="3789360"/>
            <a:ext cx="3962520" cy="2390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651640" y="422100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ide-field wave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79A-0389-4598-9578-52925392E8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2637000"/>
            <a:ext cx="345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ometry for low ord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-axis W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cm subapertu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 subaperture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V: 70´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989520" y="1584360"/>
            <a:ext cx="4686120" cy="4478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705040" y="333360"/>
            <a:ext cx="5332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MCAO Wavefront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5B0-FE0D-4C90-835F-1BE8201BC57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4360" y="150192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bits/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00 μs readout time (max), goal: 300 μs (2000-3000 fr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sh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200 μs exposure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 70e- readout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0000e- full wel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1024x1024 pixel (minimum); 1300x1300 pixel (g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MCA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2300x2300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600" y="333360"/>
            <a:ext cx="4875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AO &amp; MCAO Wavefr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nsor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AD0-C514-41FB-A1B7-E8D6696A8A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5280" y="1382760"/>
            <a:ext cx="8497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spatial resolution and large FOV lead to large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mospheric turbulence makes it necessary to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hort integration times ( &lt; 1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age reconstruction techniques requir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ation better than 1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arization signals induced by the magnetic field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ow, typically of the order of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-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ob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ns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ise sources have to be reduced to a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arization measurements are better if modulation is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the pixel and at a high frequency (kHz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CAO requires very fast large-format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32600" y="333360"/>
            <a:ext cx="270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AB3-7418-4E23-B576-400074D7B1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5480" y="44280"/>
            <a:ext cx="516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perture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8760" y="160668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V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7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3080" y="161280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4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24600" y="1584360"/>
            <a:ext cx="1197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GREG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1.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600960" y="2322360"/>
          <a:ext cx="19256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2322360"/>
                    <a:ext cx="1925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981000" y="2960640"/>
            <a:ext cx="579600" cy="579600"/>
            <a:chOff x="981000" y="2960640"/>
            <a:chExt cx="579600" cy="579600"/>
          </a:xfrm>
        </p:grpSpPr>
        <p:graphicFrame>
          <p:nvGraphicFramePr>
            <p:cNvPr id="96" name=""/>
            <p:cNvGraphicFramePr/>
            <p:nvPr/>
          </p:nvGraphicFramePr>
          <p:xfrm>
            <a:off x="981000" y="2960640"/>
            <a:ext cx="579600" cy="579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1000" y="2960640"/>
                      <a:ext cx="57960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1230120" y="3214080"/>
              <a:ext cx="802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60640" y="2795760"/>
            <a:ext cx="900000" cy="964800"/>
            <a:chOff x="2060640" y="2795760"/>
            <a:chExt cx="900000" cy="964800"/>
          </a:xfrm>
        </p:grpSpPr>
        <p:graphicFrame>
          <p:nvGraphicFramePr>
            <p:cNvPr id="100" name=""/>
            <p:cNvGraphicFramePr/>
            <p:nvPr/>
          </p:nvGraphicFramePr>
          <p:xfrm>
            <a:off x="2060640" y="2795760"/>
            <a:ext cx="900000" cy="96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60640" y="2795760"/>
                      <a:ext cx="900000" cy="96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467800" y="3239280"/>
              <a:ext cx="8820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4830840" y="2587680"/>
          <a:ext cx="1268280" cy="12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30840" y="2587680"/>
                    <a:ext cx="12682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115600" y="161280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9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81200" y="1633680"/>
            <a:ext cx="1044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THÉ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9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51160" y="2701800"/>
            <a:ext cx="1155600" cy="1155960"/>
            <a:chOff x="3251160" y="2701800"/>
            <a:chExt cx="1155600" cy="1155960"/>
          </a:xfrm>
        </p:grpSpPr>
        <p:graphicFrame>
          <p:nvGraphicFramePr>
            <p:cNvPr id="108" name=""/>
            <p:cNvGraphicFramePr/>
            <p:nvPr/>
          </p:nvGraphicFramePr>
          <p:xfrm>
            <a:off x="3251160" y="2701800"/>
            <a:ext cx="1155600" cy="115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51160" y="2701800"/>
                      <a:ext cx="1155600" cy="115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3623760" y="3068640"/>
              <a:ext cx="400680" cy="414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5920" y="3995640"/>
            <a:ext cx="3511080" cy="2664000"/>
            <a:chOff x="385920" y="3995640"/>
            <a:chExt cx="3511080" cy="2664000"/>
          </a:xfrm>
        </p:grpSpPr>
        <p:sp>
          <p:nvSpPr>
            <p:cNvPr id="112" name=""/>
            <p:cNvSpPr/>
            <p:nvPr/>
          </p:nvSpPr>
          <p:spPr>
            <a:xfrm>
              <a:off x="792360" y="3995640"/>
              <a:ext cx="10310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McM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1.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385920" y="4734000"/>
            <a:ext cx="1925640" cy="192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5920" y="4734000"/>
                      <a:ext cx="1925640" cy="19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892960" y="4181400"/>
              <a:ext cx="891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D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0.7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906640" y="5229360"/>
              <a:ext cx="990360" cy="990000"/>
              <a:chOff x="2906640" y="5229360"/>
              <a:chExt cx="990360" cy="990000"/>
            </a:xfrm>
          </p:grpSpPr>
          <p:graphicFrame>
            <p:nvGraphicFramePr>
              <p:cNvPr id="117" name=""/>
              <p:cNvGraphicFramePr/>
              <p:nvPr/>
            </p:nvGraphicFramePr>
            <p:xfrm>
              <a:off x="2906640" y="5229360"/>
              <a:ext cx="990360" cy="99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1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906640" y="5229360"/>
                        <a:ext cx="990360" cy="99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" name=""/>
              <p:cNvSpPr/>
              <p:nvPr/>
            </p:nvSpPr>
            <p:spPr>
              <a:xfrm>
                <a:off x="3354840" y="5684400"/>
                <a:ext cx="96840" cy="914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4304160" y="4194000"/>
            <a:ext cx="111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Big 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0.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81640" y="5364000"/>
            <a:ext cx="817560" cy="770040"/>
            <a:chOff x="4481640" y="5364000"/>
            <a:chExt cx="817560" cy="770040"/>
          </a:xfrm>
        </p:grpSpPr>
        <p:graphicFrame>
          <p:nvGraphicFramePr>
            <p:cNvPr id="122" name=""/>
            <p:cNvGraphicFramePr/>
            <p:nvPr/>
          </p:nvGraphicFramePr>
          <p:xfrm>
            <a:off x="4481640" y="5364000"/>
            <a:ext cx="817560" cy="770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481640" y="5364000"/>
                      <a:ext cx="81756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4851720" y="5717880"/>
              <a:ext cx="7992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239160" y="3968640"/>
            <a:ext cx="76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1.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697360" y="4689360"/>
          <a:ext cx="1925640" cy="1925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97360" y="4689360"/>
                    <a:ext cx="1925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607000" y="4599000"/>
            <a:ext cx="2054160" cy="205596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09240" y="533520"/>
            <a:ext cx="5270760" cy="5631840"/>
            <a:chOff x="2109240" y="533520"/>
            <a:chExt cx="5270760" cy="5631840"/>
          </a:xfrm>
        </p:grpSpPr>
        <p:sp>
          <p:nvSpPr>
            <p:cNvPr id="130" name=""/>
            <p:cNvSpPr/>
            <p:nvPr/>
          </p:nvSpPr>
          <p:spPr>
            <a:xfrm>
              <a:off x="2244240" y="1116360"/>
              <a:ext cx="5135760" cy="5049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240" y="533520"/>
              <a:ext cx="1956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EST &amp; AT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F95-E2B7-42B2-8444-4032A2F71D4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14089" r="0" b="14089"/>
          <a:stretch/>
        </p:blipFill>
        <p:spPr>
          <a:xfrm>
            <a:off x="-181080" y="-14400"/>
            <a:ext cx="9391680" cy="6881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0920" y="1066680"/>
            <a:ext cx="5472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151-D6EA-4FFD-9708-D15FE93508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20160" cy="3587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241960"/>
            <a:ext cx="3241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1 raw image; t</a:t>
            </a:r>
            <a:r>
              <a:rPr b="0" lang="es-ES" sz="1800" spc="-1" strike="noStrike" baseline="-25000">
                <a:solidFill>
                  <a:srgbClr val="000066"/>
                </a:solidFill>
                <a:latin typeface="Arial"/>
              </a:rPr>
              <a:t>int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= 1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O cor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5241960"/>
            <a:ext cx="46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rrecte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OMFDB correction using 100 raw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3080" y="492120"/>
            <a:ext cx="5472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C7F-D5C4-4695-90C5-85EAB3A925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re_post_speckle.jp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13080" y="492120"/>
            <a:ext cx="5472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750-4609-40A6-8264-C5EC0B4B88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591080" cy="46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52920" y="1052640"/>
            <a:ext cx="4591080" cy="4667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050920" y="260280"/>
            <a:ext cx="5472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Polarimetric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834-9FA5-49F0-8D6F-3887A48E85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68880" y="404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95240" cy="6096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660240"/>
            <a:ext cx="3454560" cy="147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743200" y="2108160"/>
            <a:ext cx="3454560" cy="147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743200" y="3556080"/>
            <a:ext cx="3454560" cy="1473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743200" y="5000760"/>
            <a:ext cx="3454560" cy="1473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6840" y="10332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ng-slit spectropolarime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2852640"/>
            <a:ext cx="2519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2D spectro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are requ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(IFUS, fiber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50F2-71BE-434D-B2AC-B8A6A4232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69840" y="719280"/>
            <a:ext cx="7202520" cy="585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058840" y="103320"/>
            <a:ext cx="60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mporal evolution (photosph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FAE-BB3A-4934-83E0-6CDF1433DE2D}" type="slidenum">
              <a:t>9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70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3:12:26Z</dcterms:created>
  <dc:creator>lcavall</dc:creator>
  <dc:description/>
  <dc:language>en-US</dc:language>
  <cp:lastModifiedBy> </cp:lastModifiedBy>
  <dcterms:modified xsi:type="dcterms:W3CDTF">2009-10-12T12:12:15Z</dcterms:modified>
  <cp:revision>110</cp:revision>
  <dc:subject/>
  <dc:title>EST European Solar Telesc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